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8F9D-DC9E-44C1-BB60-A3950D285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DB197-EAAA-4623-9FCA-FC2852F59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3E6D-E11A-48F9-BF00-CB1E546FA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0EB92-48CA-48C4-A3BE-660FA4EA1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07AEC-C8A2-44B6-8DF1-37D75C4CF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3298DE-5574-4123-9CA1-A0B49017E7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4853A-B6F1-4884-8BDD-F3800DDF56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88903A-0062-4544-84F4-BDA261DCE5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C16A1-A60F-45FF-8219-652A258548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7E33D4-F5E4-407C-A217-57E944288A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33818-7DA5-46CB-B755-9C0BC2DB7F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99885-A64F-4860-8124-49CD0A9990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AC6B-C40C-42D2-80CA-E1FC8D018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1F69B6-833C-4884-9591-B5BC6C1CF3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0C6E1-63A3-45F0-905D-6F0422F248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5F4AB3-E96C-4C7B-A021-FC0F440F18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F02279-02A0-489B-B48B-4F62FD2DEA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DDE48B-76BE-4340-9F26-7102FADAF0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175CC-2207-4F87-98F3-36F4BF76B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1782-FA0B-42AA-9B2F-B8F4D7CA8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5A490-F84F-4662-8224-4B572D4A0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D79C8-C6B4-44B7-8730-293B4047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F43F3-BB5A-4DE7-BC60-97F7A5BCD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6823-8E05-4A68-93A8-24E8E38F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E517-CB09-4C67-9243-C8144447F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CEEB-283A-4189-960F-526AEA7A69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FEAD-8842-43BD-9CAB-E305C5115B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3200" spc="-1" strike="noStrike">
                <a:solidFill>
                  <a:srgbClr val="ffffff"/>
                </a:solidFill>
                <a:latin typeface="Tahoma"/>
              </a:rPr>
              <a:t>Summary of 2 Corinthians, Part 2</a:t>
            </a:r>
            <a:endParaRPr b="0" lang="en-US" sz="3200" spc="-1" strike="noStrike">
              <a:solidFill>
                <a:srgbClr val="ffffff"/>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2, Lesson 6</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orinthians 4 - 13</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159 - 16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2</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ous revelations support Paul’s apostleshi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as given a thorn in the flesh to keep him humb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took pleasure in difficulties for Christ’s sake because they made him strong</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s of an apostle were wrought in Corinth in all patience, in signs, and wonders, and mighty deed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stated that he would gladly spend and be spent for Corinthian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s concern was that he not find them car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3</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sked that they examine themselves, whether they be in the faith; to prove themselv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rote these things, lest when present he would have to use sharpnes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closing, Paul requested that they be perfect, of good comfort, of one mind, living in peace, and that the God of love and peace be with th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ul’s 3</a:t>
            </a:r>
            <a:r>
              <a:rPr b="0" lang="en-US" sz="4400" spc="-1" strike="noStrike" baseline="30000">
                <a:solidFill>
                  <a:srgbClr val="ffffff"/>
                </a:solidFill>
                <a:latin typeface="Tahoma"/>
              </a:rPr>
              <a:t>rd</a:t>
            </a:r>
            <a:r>
              <a:rPr b="0" lang="en-US" sz="4400" spc="-1" strike="noStrike">
                <a:solidFill>
                  <a:srgbClr val="ffffff"/>
                </a:solidFill>
                <a:latin typeface="Tahoma"/>
              </a:rPr>
              <a:t> Missionary Journey</a:t>
            </a:r>
            <a:endParaRPr b="0" lang="en-US" sz="4400" spc="-1" strike="noStrike">
              <a:solidFill>
                <a:srgbClr val="ffffff"/>
              </a:solidFill>
              <a:latin typeface="Tahoma"/>
            </a:endParaRPr>
          </a:p>
        </p:txBody>
      </p:sp>
      <p:pic>
        <p:nvPicPr>
          <p:cNvPr id="113" name="" descr=""/>
          <p:cNvPicPr/>
          <p:nvPr/>
        </p:nvPicPr>
        <p:blipFill>
          <a:blip r:embed="rId2"/>
          <a:stretch/>
        </p:blipFill>
        <p:spPr>
          <a:xfrm>
            <a:off x="685800" y="1676520"/>
            <a:ext cx="786276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8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4</a:t>
            </a:r>
            <a:endParaRPr b="0" lang="en-US" sz="4000" spc="-1" strike="noStrike">
              <a:solidFill>
                <a:srgbClr val="ffffff"/>
              </a:solidFill>
              <a:latin typeface="Tahoma"/>
            </a:endParaRPr>
          </a:p>
        </p:txBody>
      </p:sp>
      <p:sp>
        <p:nvSpPr>
          <p:cNvPr id="93"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nd companions renounced actions that would bring shame upon the messag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ist Jesus the Lord was preached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dily weaknesses do not bring shame on the treasur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nd companions were troubled, perplexed, and persecuted but not overcom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were delivered unto death for Jesus’ sake, that the life of Jesus may be shown in their flesh</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ht affliction now works for more exceeding gl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8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5</a:t>
            </a:r>
            <a:endParaRPr b="0" lang="en-US" sz="4000" spc="-1" strike="noStrike">
              <a:solidFill>
                <a:srgbClr val="ffffff"/>
              </a:solidFill>
              <a:latin typeface="Tahoma"/>
            </a:endParaRPr>
          </a:p>
        </p:txBody>
      </p:sp>
      <p:sp>
        <p:nvSpPr>
          <p:cNvPr id="95" name="PlaceHolder 2"/>
          <p:cNvSpPr>
            <a:spLocks noGrp="1"/>
          </p:cNvSpPr>
          <p:nvPr>
            <p:ph/>
          </p:nvPr>
        </p:nvSpPr>
        <p:spPr>
          <a:xfrm>
            <a:off x="380880" y="1981080"/>
            <a:ext cx="8229600" cy="422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esired for the heavenly bod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must appear before the judgment seat of Go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 died for all that they may live for Hi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man that is in Christ is a new crea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ambassadors of Chri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6</a:t>
            </a:r>
            <a:endParaRPr b="0" lang="en-US" sz="4000" spc="-1" strike="noStrike">
              <a:solidFill>
                <a:srgbClr val="ffffff"/>
              </a:solidFill>
              <a:latin typeface="Tahoma"/>
            </a:endParaRPr>
          </a:p>
        </p:txBody>
      </p:sp>
      <p:sp>
        <p:nvSpPr>
          <p:cNvPr id="97" name="PlaceHolder 2"/>
          <p:cNvSpPr>
            <a:spLocks noGrp="1"/>
          </p:cNvSpPr>
          <p:nvPr>
            <p:ph/>
          </p:nvPr>
        </p:nvSpPr>
        <p:spPr>
          <a:xfrm>
            <a:off x="457200" y="1752480"/>
            <a:ext cx="8229600" cy="467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w is the day of salvat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no offense that the ministry be not blam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nd others had been ministers of God in afflictions, necessities, distress, stripes, imprisonments, tumults, labors, fasting; by pureness, knowledge, longsuffering, kindness, by the Holy Ghost, the word of truth, the power of Go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not unequally yoked with unbeliev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7</a:t>
            </a:r>
            <a:endParaRPr b="0" lang="en-US" sz="4000" spc="-1" strike="noStrike">
              <a:solidFill>
                <a:srgbClr val="ffffff"/>
              </a:solidFill>
              <a:latin typeface="Tahoma"/>
            </a:endParaRPr>
          </a:p>
        </p:txBody>
      </p:sp>
      <p:sp>
        <p:nvSpPr>
          <p:cNvPr id="99" name="PlaceHolder 2"/>
          <p:cNvSpPr>
            <a:spLocks noGrp="1"/>
          </p:cNvSpPr>
          <p:nvPr>
            <p:ph/>
          </p:nvPr>
        </p:nvSpPr>
        <p:spPr>
          <a:xfrm>
            <a:off x="533520" y="2057040"/>
            <a:ext cx="82296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d had comforted Paul by the return of Titu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was even more consolation from Corinth’s response to Paul’s stern lett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inth had sorrowed to repen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us’ spirit was refreshed by Corinthian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ll things Corinth had been clear in the matter addressed by Pau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8</a:t>
            </a:r>
            <a:endParaRPr b="0" lang="en-US" sz="4400" spc="-1" strike="noStrike">
              <a:solidFill>
                <a:srgbClr val="ffffff"/>
              </a:solidFill>
              <a:latin typeface="Tahoma"/>
            </a:endParaRPr>
          </a:p>
        </p:txBody>
      </p:sp>
      <p:sp>
        <p:nvSpPr>
          <p:cNvPr id="10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cedonian churches had been liberal in their collection for the poor saints in Jerusale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first gave themselves to the Lor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ul requested that Corinth abound in their giving as they had in other attribut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ist in His willingness to be sacrificed is an example for Corinth</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re is a willing mind, gifts are accepted by what a man ha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ul’s desire was that Corinth share it’s abundance with Jerusale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proved messengers conducted themselves openly and aboveboar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9</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inth’s readiness in giving encouraged other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ethren had been sent ahead concerning the expected gift to allow followers in Corinth to be prepar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man should give as he purposes in his hear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d blesses the cheerful g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0</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apons of Paul’s warfare are not carnal, but mighty through God</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s words in letters when absent were the same as his actions when present</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that glories, let him glory in the Lord</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not he that commends himself that is approved, but whom the Lord comm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1</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stated that he was not a whit behind the chiefest apostl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had kept himself from being a financial burden to Corinth</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lse apostles transformed themselves into the apostles of Chris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stated his lineag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reviewed sufferings that resulted from his preach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Frank D Vines</cp:lastModifiedBy>
  <dcterms:modified xsi:type="dcterms:W3CDTF">2007-01-24T03:29:41Z</dcterms:modified>
  <cp:revision>40</cp:revision>
  <dc:subject/>
  <dc:title>Life of Christ, Part 2 In Perea</dc:title>
</cp:coreProperties>
</file>